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655-A4AF-4F33-9571-F29E1B92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7c9b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406-AE2B-401E-AB88-C0C7BFC5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7c9b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A31-0FC6-42A8-9C07-D27BA62C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7c9b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55C-F17E-4ECA-BD43-5A7963F2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7c9b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F09-AA97-4E8D-B4C9-AC437569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7c9b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6C5-F910-4041-A66E-6FCF7A73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7c9b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4F0-B03A-4BBC-9834-E5F623B8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7c9b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AE4-8FC2-4E22-A5FF-AF358D53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718D-DFAB-4B60-B5D1-8AAD84AA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7c9b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6DE-47F7-407D-9A69-58F972C9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7c9b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793-F59B-489D-92D8-9CD39519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7c9b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50B-1D05-4D37-9E18-8087D3A0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7c9ba5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7c9ba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389480"/>
                <a:tab algn="l" pos="8778960"/>
              </a:tabLst>
            </a:pPr>
            <a:fld id="{F200800C-50A3-49AC-956B-C0E2FC311562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308640" cy="3200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8229600" y="1143000"/>
            <a:ext cx="2712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habha’s Hybridity and Kenyan Developme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915400" y="3048120"/>
            <a:ext cx="2575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annah Tuttle, Global Studi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838080" y="12192120"/>
            <a:ext cx="10972800" cy="5426280"/>
          </a:xfrm>
          <a:prstGeom prst="rect">
            <a:avLst/>
          </a:prstGeom>
          <a:solidFill>
            <a:srgbClr val="d8f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From the colonial asymmetry of power and the constant separation of colonial values from native values through discourse arose a new hybrid culture which was both </a:t>
            </a:r>
            <a:r>
              <a:rPr b="0" i="1" lang="en-US" sz="5000" spc="-1" strike="noStrike">
                <a:solidFill>
                  <a:srgbClr val="000000"/>
                </a:solidFill>
                <a:latin typeface="Arial"/>
              </a:rPr>
              <a:t>produced by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i="1" lang="en-US" sz="5000" spc="-1" strike="noStrike">
                <a:solidFill>
                  <a:srgbClr val="000000"/>
                </a:solidFill>
                <a:latin typeface="Arial"/>
              </a:rPr>
              <a:t>danger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to the colonial cultural differentiatio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6705720" y="5029200"/>
            <a:ext cx="30175200" cy="1922760"/>
          </a:xfrm>
          <a:prstGeom prst="rect">
            <a:avLst/>
          </a:prstGeom>
          <a:solidFill>
            <a:srgbClr val="d1a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earch Question: How does Homi K. Bhabha’s concept of hybridity manifest in the development context of Kisumu, Keny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990720" y="18592920"/>
            <a:ext cx="11125080" cy="5045040"/>
            <a:chOff x="990720" y="18592920"/>
            <a:chExt cx="11125080" cy="5045040"/>
          </a:xfrm>
        </p:grpSpPr>
        <p:sp>
          <p:nvSpPr>
            <p:cNvPr id="47" name="TextBox 2"/>
            <p:cNvSpPr/>
            <p:nvPr/>
          </p:nvSpPr>
          <p:spPr>
            <a:xfrm>
              <a:off x="990720" y="18592920"/>
              <a:ext cx="472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3"/>
            <p:cNvSpPr/>
            <p:nvPr/>
          </p:nvSpPr>
          <p:spPr>
            <a:xfrm>
              <a:off x="1523880" y="19888200"/>
              <a:ext cx="1059192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3000" indent="-1143000"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Field Research: January 201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marL="1143000" indent="-1143000"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19 semi-structured interviews: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00200" indent="-1143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9 Kenyan community leader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00200" indent="-1143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0 foreign development worker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marL="1143000" indent="-1143000"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Participant-observati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Box 7"/>
          <p:cNvSpPr/>
          <p:nvPr/>
        </p:nvSpPr>
        <p:spPr>
          <a:xfrm>
            <a:off x="990720" y="11125080"/>
            <a:ext cx="13106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Bhabha’s Hybridity: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9"/>
          <p:cNvGrpSpPr/>
          <p:nvPr/>
        </p:nvGrpSpPr>
        <p:grpSpPr>
          <a:xfrm>
            <a:off x="27660600" y="17983080"/>
            <a:ext cx="15801840" cy="5791320"/>
            <a:chOff x="27660600" y="17983080"/>
            <a:chExt cx="15801840" cy="5791320"/>
          </a:xfrm>
        </p:grpSpPr>
        <p:sp>
          <p:nvSpPr>
            <p:cNvPr id="51" name="TextBox 13"/>
            <p:cNvSpPr/>
            <p:nvPr/>
          </p:nvSpPr>
          <p:spPr>
            <a:xfrm>
              <a:off x="27698760" y="17983080"/>
              <a:ext cx="1576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Land Tenure: Unblended Hodge-Podge of System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12"/>
            <p:cNvGrpSpPr/>
            <p:nvPr/>
          </p:nvGrpSpPr>
          <p:grpSpPr>
            <a:xfrm>
              <a:off x="27660600" y="18973440"/>
              <a:ext cx="15239520" cy="4800960"/>
              <a:chOff x="27660600" y="18973440"/>
              <a:chExt cx="15239520" cy="480096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27660600" y="18973440"/>
                <a:ext cx="15239520" cy="4800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389480"/>
                    <a:tab algn="l" pos="8778960"/>
                  </a:tabLst>
                </a:pPr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Box 8"/>
              <p:cNvSpPr/>
              <p:nvPr/>
            </p:nvSpPr>
            <p:spPr>
              <a:xfrm>
                <a:off x="28193760" y="19354320"/>
                <a:ext cx="4952880" cy="1008360"/>
              </a:xfrm>
              <a:prstGeom prst="rect">
                <a:avLst/>
              </a:prstGeom>
              <a:solidFill>
                <a:srgbClr val="f8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Arial"/>
                  </a:rPr>
                  <a:t>Privatized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Box 10"/>
              <p:cNvSpPr/>
              <p:nvPr/>
            </p:nvSpPr>
            <p:spPr>
              <a:xfrm>
                <a:off x="37109160" y="19354320"/>
                <a:ext cx="5257440" cy="1008360"/>
              </a:xfrm>
              <a:prstGeom prst="rect">
                <a:avLst/>
              </a:prstGeom>
              <a:solidFill>
                <a:srgbClr val="9a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Arial"/>
                  </a:rPr>
                  <a:t>Communal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3"/>
              <p:cNvGrpSpPr/>
              <p:nvPr/>
            </p:nvGrpSpPr>
            <p:grpSpPr>
              <a:xfrm>
                <a:off x="32918040" y="21945600"/>
                <a:ext cx="4724280" cy="1371600"/>
                <a:chOff x="32918040" y="21945600"/>
                <a:chExt cx="4724280" cy="1371600"/>
              </a:xfrm>
            </p:grpSpPr>
            <p:sp>
              <p:nvSpPr>
                <p:cNvPr id="57" name="Rectangle 11"/>
                <p:cNvSpPr/>
                <p:nvPr/>
              </p:nvSpPr>
              <p:spPr>
                <a:xfrm>
                  <a:off x="32918040" y="22631400"/>
                  <a:ext cx="944280" cy="685800"/>
                </a:xfrm>
                <a:prstGeom prst="rect">
                  <a:avLst/>
                </a:prstGeom>
                <a:solidFill>
                  <a:srgbClr val="f8cdc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389480"/>
                      <a:tab algn="l" pos="8778960"/>
                    </a:tabLst>
                  </a:pPr>
                  <a:endParaRPr b="0" lang="en-US" sz="8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12"/>
                <p:cNvSpPr/>
                <p:nvPr/>
              </p:nvSpPr>
              <p:spPr>
                <a:xfrm>
                  <a:off x="34807680" y="22631400"/>
                  <a:ext cx="944640" cy="685800"/>
                </a:xfrm>
                <a:prstGeom prst="rect">
                  <a:avLst/>
                </a:prstGeom>
                <a:solidFill>
                  <a:srgbClr val="f8cdc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389480"/>
                      <a:tab algn="l" pos="8778960"/>
                    </a:tabLst>
                  </a:pPr>
                  <a:endParaRPr b="0" lang="en-US" sz="8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Rectangle 28"/>
                <p:cNvSpPr/>
                <p:nvPr/>
              </p:nvSpPr>
              <p:spPr>
                <a:xfrm>
                  <a:off x="33862320" y="21945600"/>
                  <a:ext cx="944280" cy="685800"/>
                </a:xfrm>
                <a:prstGeom prst="rect">
                  <a:avLst/>
                </a:prstGeom>
                <a:solidFill>
                  <a:srgbClr val="f8cdc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389480"/>
                      <a:tab algn="l" pos="8778960"/>
                    </a:tabLst>
                  </a:pPr>
                  <a:endParaRPr b="0" lang="en-US" sz="8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Rectangle 29"/>
                <p:cNvSpPr/>
                <p:nvPr/>
              </p:nvSpPr>
              <p:spPr>
                <a:xfrm>
                  <a:off x="32918040" y="21945600"/>
                  <a:ext cx="944280" cy="685800"/>
                </a:xfrm>
                <a:prstGeom prst="rect">
                  <a:avLst/>
                </a:prstGeom>
                <a:solidFill>
                  <a:srgbClr val="9ad1f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389480"/>
                      <a:tab algn="l" pos="8778960"/>
                    </a:tabLst>
                  </a:pPr>
                  <a:endParaRPr b="0" lang="en-US" sz="8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30"/>
                <p:cNvSpPr/>
                <p:nvPr/>
              </p:nvSpPr>
              <p:spPr>
                <a:xfrm>
                  <a:off x="34806960" y="21945600"/>
                  <a:ext cx="946080" cy="685800"/>
                </a:xfrm>
                <a:prstGeom prst="rect">
                  <a:avLst/>
                </a:prstGeom>
                <a:solidFill>
                  <a:srgbClr val="9ad1f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389480"/>
                      <a:tab algn="l" pos="8778960"/>
                    </a:tabLst>
                  </a:pPr>
                  <a:endParaRPr b="0" lang="en-US" sz="8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Rectangle 31"/>
                <p:cNvSpPr/>
                <p:nvPr/>
              </p:nvSpPr>
              <p:spPr>
                <a:xfrm>
                  <a:off x="35752680" y="21945600"/>
                  <a:ext cx="944640" cy="685800"/>
                </a:xfrm>
                <a:prstGeom prst="rect">
                  <a:avLst/>
                </a:prstGeom>
                <a:solidFill>
                  <a:srgbClr val="f8cdc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389480"/>
                      <a:tab algn="l" pos="8778960"/>
                    </a:tabLst>
                  </a:pPr>
                  <a:endParaRPr b="0" lang="en-US" sz="8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Rectangle 32"/>
                <p:cNvSpPr/>
                <p:nvPr/>
              </p:nvSpPr>
              <p:spPr>
                <a:xfrm>
                  <a:off x="35753400" y="22631400"/>
                  <a:ext cx="944280" cy="685800"/>
                </a:xfrm>
                <a:prstGeom prst="rect">
                  <a:avLst/>
                </a:prstGeom>
                <a:solidFill>
                  <a:srgbClr val="9ad1f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389480"/>
                      <a:tab algn="l" pos="8778960"/>
                    </a:tabLst>
                  </a:pPr>
                  <a:endParaRPr b="0" lang="en-US" sz="8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Rectangle 33"/>
                <p:cNvSpPr/>
                <p:nvPr/>
              </p:nvSpPr>
              <p:spPr>
                <a:xfrm>
                  <a:off x="33862320" y="22631400"/>
                  <a:ext cx="944280" cy="685800"/>
                </a:xfrm>
                <a:prstGeom prst="rect">
                  <a:avLst/>
                </a:prstGeom>
                <a:solidFill>
                  <a:srgbClr val="9ad1f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389480"/>
                      <a:tab algn="l" pos="8778960"/>
                    </a:tabLst>
                  </a:pPr>
                  <a:endParaRPr b="0" lang="en-US" sz="8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34"/>
                <p:cNvSpPr/>
                <p:nvPr/>
              </p:nvSpPr>
              <p:spPr>
                <a:xfrm>
                  <a:off x="36697680" y="22631400"/>
                  <a:ext cx="944640" cy="685800"/>
                </a:xfrm>
                <a:prstGeom prst="rect">
                  <a:avLst/>
                </a:prstGeom>
                <a:solidFill>
                  <a:srgbClr val="f8cdc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389480"/>
                      <a:tab algn="l" pos="8778960"/>
                    </a:tabLst>
                  </a:pPr>
                  <a:endParaRPr b="0" lang="en-US" sz="8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35"/>
                <p:cNvSpPr/>
                <p:nvPr/>
              </p:nvSpPr>
              <p:spPr>
                <a:xfrm>
                  <a:off x="36698040" y="21945600"/>
                  <a:ext cx="944280" cy="685800"/>
                </a:xfrm>
                <a:prstGeom prst="rect">
                  <a:avLst/>
                </a:prstGeom>
                <a:solidFill>
                  <a:srgbClr val="9ad1f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389480"/>
                      <a:tab algn="l" pos="8778960"/>
                    </a:tabLst>
                  </a:pPr>
                  <a:endParaRPr b="0" lang="en-US" sz="8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Left-Right-Up Arrow 38"/>
              <p:cNvSpPr/>
              <p:nvPr/>
            </p:nvSpPr>
            <p:spPr>
              <a:xfrm rot="10800000">
                <a:off x="34060680" y="19354320"/>
                <a:ext cx="2285640" cy="2438640"/>
              </a:xfrm>
              <a:custGeom>
                <a:avLst/>
                <a:gdLst/>
                <a:ahLst/>
                <a:rect l="l" t="t" r="r" b="b"/>
                <a:pathLst>
                  <a:path w="2286000" h="2438400">
                    <a:moveTo>
                      <a:pt x="0" y="1866900"/>
                    </a:moveTo>
                    <a:lnTo>
                      <a:pt x="571500" y="1295400"/>
                    </a:lnTo>
                    <a:lnTo>
                      <a:pt x="571500" y="1581150"/>
                    </a:lnTo>
                    <a:lnTo>
                      <a:pt x="857250" y="1581150"/>
                    </a:lnTo>
                    <a:lnTo>
                      <a:pt x="857250" y="571500"/>
                    </a:lnTo>
                    <a:lnTo>
                      <a:pt x="571500" y="571500"/>
                    </a:lnTo>
                    <a:lnTo>
                      <a:pt x="1143000" y="0"/>
                    </a:lnTo>
                    <a:lnTo>
                      <a:pt x="1714500" y="571500"/>
                    </a:lnTo>
                    <a:lnTo>
                      <a:pt x="1428750" y="571500"/>
                    </a:lnTo>
                    <a:lnTo>
                      <a:pt x="1428750" y="1581150"/>
                    </a:lnTo>
                    <a:lnTo>
                      <a:pt x="1714500" y="1581150"/>
                    </a:lnTo>
                    <a:lnTo>
                      <a:pt x="1714500" y="1295400"/>
                    </a:lnTo>
                    <a:lnTo>
                      <a:pt x="2286000" y="1866900"/>
                    </a:lnTo>
                    <a:lnTo>
                      <a:pt x="1714500" y="2438400"/>
                    </a:lnTo>
                    <a:lnTo>
                      <a:pt x="1714500" y="2152650"/>
                    </a:lnTo>
                    <a:lnTo>
                      <a:pt x="571500" y="2152650"/>
                    </a:lnTo>
                    <a:lnTo>
                      <a:pt x="571500" y="2438400"/>
                    </a:lnTo>
                    <a:lnTo>
                      <a:pt x="0" y="1866900"/>
                    </a:lnTo>
                    <a:close/>
                  </a:path>
                </a:pathLst>
              </a:custGeom>
              <a:solidFill>
                <a:srgbClr val="e6ec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16"/>
          <p:cNvGrpSpPr/>
          <p:nvPr/>
        </p:nvGrpSpPr>
        <p:grpSpPr>
          <a:xfrm>
            <a:off x="27660600" y="24993720"/>
            <a:ext cx="15239880" cy="6019560"/>
            <a:chOff x="27660600" y="24993720"/>
            <a:chExt cx="15239880" cy="6019560"/>
          </a:xfrm>
        </p:grpSpPr>
        <p:sp>
          <p:nvSpPr>
            <p:cNvPr id="69" name="TextBox 14"/>
            <p:cNvSpPr/>
            <p:nvPr/>
          </p:nvSpPr>
          <p:spPr>
            <a:xfrm>
              <a:off x="27734040" y="24993720"/>
              <a:ext cx="1412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Health: Conspicuous Lack of a Hybrid Syste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7"/>
            <p:cNvGrpSpPr/>
            <p:nvPr/>
          </p:nvGrpSpPr>
          <p:grpSpPr>
            <a:xfrm>
              <a:off x="27660600" y="25984080"/>
              <a:ext cx="15239880" cy="5029200"/>
              <a:chOff x="27660600" y="25984080"/>
              <a:chExt cx="15239880" cy="5029200"/>
            </a:xfrm>
          </p:grpSpPr>
          <p:sp>
            <p:nvSpPr>
              <p:cNvPr id="71" name="Rectangle 39"/>
              <p:cNvSpPr/>
              <p:nvPr/>
            </p:nvSpPr>
            <p:spPr>
              <a:xfrm>
                <a:off x="27660600" y="25984080"/>
                <a:ext cx="15239880" cy="502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389480"/>
                    <a:tab algn="l" pos="8778960"/>
                  </a:tabLst>
                </a:pPr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Box 40"/>
              <p:cNvSpPr/>
              <p:nvPr/>
            </p:nvSpPr>
            <p:spPr>
              <a:xfrm>
                <a:off x="28193760" y="26288640"/>
                <a:ext cx="4952880" cy="1008360"/>
              </a:xfrm>
              <a:prstGeom prst="rect">
                <a:avLst/>
              </a:prstGeom>
              <a:solidFill>
                <a:srgbClr val="f8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Arial"/>
                  </a:rPr>
                  <a:t>Western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Box 41"/>
              <p:cNvSpPr/>
              <p:nvPr/>
            </p:nvSpPr>
            <p:spPr>
              <a:xfrm>
                <a:off x="37109520" y="26288640"/>
                <a:ext cx="5257800" cy="1008360"/>
              </a:xfrm>
              <a:prstGeom prst="rect">
                <a:avLst/>
              </a:prstGeom>
              <a:solidFill>
                <a:srgbClr val="9a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Arial"/>
                  </a:rPr>
                  <a:t>Traditional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ight Arrow 15"/>
              <p:cNvSpPr/>
              <p:nvPr/>
            </p:nvSpPr>
            <p:spPr>
              <a:xfrm>
                <a:off x="35661600" y="26364960"/>
                <a:ext cx="1295280" cy="914400"/>
              </a:xfrm>
              <a:prstGeom prst="rightArrow">
                <a:avLst>
                  <a:gd name="adj1" fmla="val 50000"/>
                  <a:gd name="adj2" fmla="val 49998"/>
                </a:avLst>
              </a:prstGeom>
              <a:solidFill>
                <a:srgbClr val="595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389480"/>
                    <a:tab algn="l" pos="8778960"/>
                  </a:tabLst>
                </a:pPr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ight Arrow 43"/>
              <p:cNvSpPr/>
              <p:nvPr/>
            </p:nvSpPr>
            <p:spPr>
              <a:xfrm rot="10800000">
                <a:off x="33375600" y="26364960"/>
                <a:ext cx="1295280" cy="914400"/>
              </a:xfrm>
              <a:prstGeom prst="rightArrow">
                <a:avLst>
                  <a:gd name="adj1" fmla="val 50000"/>
                  <a:gd name="adj2" fmla="val 49998"/>
                </a:avLst>
              </a:prstGeom>
              <a:solidFill>
                <a:srgbClr val="595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389480"/>
                    <a:tab algn="l" pos="8778960"/>
                  </a:tabLst>
                </a:pPr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ight Arrow 45"/>
              <p:cNvSpPr/>
              <p:nvPr/>
            </p:nvSpPr>
            <p:spPr>
              <a:xfrm rot="5400000">
                <a:off x="34480440" y="27851040"/>
                <a:ext cx="1295280" cy="914400"/>
              </a:xfrm>
              <a:prstGeom prst="rightArrow">
                <a:avLst>
                  <a:gd name="adj1" fmla="val 50000"/>
                  <a:gd name="adj2" fmla="val 49998"/>
                </a:avLst>
              </a:prstGeom>
              <a:solidFill>
                <a:srgbClr val="595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389480"/>
                    <a:tab algn="l" pos="8778960"/>
                  </a:tabLst>
                </a:pPr>
                <a:endParaRPr b="0" lang="en-US" sz="8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13"/>
          <p:cNvGrpSpPr/>
          <p:nvPr/>
        </p:nvGrpSpPr>
        <p:grpSpPr>
          <a:xfrm>
            <a:off x="12420720" y="7391520"/>
            <a:ext cx="14401800" cy="7149960"/>
            <a:chOff x="12420720" y="7391520"/>
            <a:chExt cx="14401800" cy="7149960"/>
          </a:xfrm>
        </p:grpSpPr>
        <p:sp>
          <p:nvSpPr>
            <p:cNvPr id="78" name="TextBox 18"/>
            <p:cNvSpPr/>
            <p:nvPr/>
          </p:nvSpPr>
          <p:spPr>
            <a:xfrm>
              <a:off x="13109400" y="7391520"/>
              <a:ext cx="4048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Argument: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8"/>
            <p:cNvSpPr/>
            <p:nvPr/>
          </p:nvSpPr>
          <p:spPr>
            <a:xfrm>
              <a:off x="12420720" y="8686800"/>
              <a:ext cx="14401800" cy="5854680"/>
            </a:xfrm>
            <a:prstGeom prst="rect">
              <a:avLst/>
            </a:prstGeom>
            <a:solidFill>
              <a:srgbClr val="fcf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I argue that Bhabha’s concept of “hybridity” manifests in contemporary development practice, namely between the Western-funded NGOs and the communities they try to help. I also discuss the potential of these hybrid systems when conceptualizing future development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21" descr="DSCN0920.JPG"/>
          <p:cNvPicPr/>
          <p:nvPr/>
        </p:nvPicPr>
        <p:blipFill>
          <a:blip r:embed="rId2"/>
          <a:stretch/>
        </p:blipFill>
        <p:spPr>
          <a:xfrm>
            <a:off x="38328480" y="685800"/>
            <a:ext cx="4681800" cy="624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DSCN1062.JPG"/>
          <p:cNvPicPr/>
          <p:nvPr/>
        </p:nvPicPr>
        <p:blipFill>
          <a:blip r:embed="rId3"/>
          <a:stretch/>
        </p:blipFill>
        <p:spPr>
          <a:xfrm>
            <a:off x="22479120" y="2855592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3" descr="DSCN0993.JPG"/>
          <p:cNvPicPr/>
          <p:nvPr/>
        </p:nvPicPr>
        <p:blipFill>
          <a:blip r:embed="rId4"/>
          <a:stretch/>
        </p:blipFill>
        <p:spPr>
          <a:xfrm>
            <a:off x="15290640" y="28555920"/>
            <a:ext cx="4292640" cy="3219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4" descr="DSCN1069.JPG"/>
          <p:cNvPicPr/>
          <p:nvPr/>
        </p:nvPicPr>
        <p:blipFill>
          <a:blip r:embed="rId5"/>
          <a:stretch/>
        </p:blipFill>
        <p:spPr>
          <a:xfrm>
            <a:off x="8102520" y="28536840"/>
            <a:ext cx="4318200" cy="323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5" descr="DSCN0916.JPG"/>
          <p:cNvPicPr/>
          <p:nvPr/>
        </p:nvPicPr>
        <p:blipFill>
          <a:blip r:embed="rId6"/>
          <a:stretch/>
        </p:blipFill>
        <p:spPr>
          <a:xfrm>
            <a:off x="1015920" y="28536840"/>
            <a:ext cx="4318200" cy="323856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6"/>
          <p:cNvGrpSpPr/>
          <p:nvPr/>
        </p:nvGrpSpPr>
        <p:grpSpPr>
          <a:xfrm>
            <a:off x="27736560" y="12192120"/>
            <a:ext cx="15239880" cy="4267080"/>
            <a:chOff x="27736560" y="12192120"/>
            <a:chExt cx="15239880" cy="4267080"/>
          </a:xfrm>
        </p:grpSpPr>
        <p:sp>
          <p:nvSpPr>
            <p:cNvPr id="86" name="Rectangle 11"/>
            <p:cNvSpPr/>
            <p:nvPr/>
          </p:nvSpPr>
          <p:spPr>
            <a:xfrm rot="5400000">
              <a:off x="33222960" y="6705360"/>
              <a:ext cx="4267080" cy="1523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389480"/>
                  <a:tab algn="l" pos="8778960"/>
                </a:tabLst>
              </a:pPr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59"/>
            <p:cNvSpPr/>
            <p:nvPr/>
          </p:nvSpPr>
          <p:spPr>
            <a:xfrm>
              <a:off x="28270080" y="12573000"/>
              <a:ext cx="4952880" cy="1008360"/>
            </a:xfrm>
            <a:prstGeom prst="rect">
              <a:avLst/>
            </a:prstGeom>
            <a:solidFill>
              <a:srgbClr val="f8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Institutiona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60"/>
            <p:cNvSpPr/>
            <p:nvPr/>
          </p:nvSpPr>
          <p:spPr>
            <a:xfrm>
              <a:off x="37185840" y="12573000"/>
              <a:ext cx="5257800" cy="1008360"/>
            </a:xfrm>
            <a:prstGeom prst="rect">
              <a:avLst/>
            </a:prstGeom>
            <a:solidFill>
              <a:srgbClr val="9ad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eft-Right-Up Arrow 61"/>
            <p:cNvSpPr/>
            <p:nvPr/>
          </p:nvSpPr>
          <p:spPr>
            <a:xfrm rot="10800000">
              <a:off x="34061400" y="12572640"/>
              <a:ext cx="2286000" cy="2438280"/>
            </a:xfrm>
            <a:custGeom>
              <a:avLst/>
              <a:gdLst/>
              <a:ahLst/>
              <a:rect l="l" t="t" r="r" b="b"/>
              <a:pathLst>
                <a:path w="2286000" h="2438400">
                  <a:moveTo>
                    <a:pt x="0" y="1866900"/>
                  </a:moveTo>
                  <a:lnTo>
                    <a:pt x="571500" y="1295400"/>
                  </a:lnTo>
                  <a:lnTo>
                    <a:pt x="571500" y="1581150"/>
                  </a:lnTo>
                  <a:lnTo>
                    <a:pt x="857250" y="1581150"/>
                  </a:lnTo>
                  <a:lnTo>
                    <a:pt x="857250" y="571500"/>
                  </a:lnTo>
                  <a:lnTo>
                    <a:pt x="571500" y="571500"/>
                  </a:lnTo>
                  <a:lnTo>
                    <a:pt x="1143000" y="0"/>
                  </a:lnTo>
                  <a:lnTo>
                    <a:pt x="1714500" y="571500"/>
                  </a:lnTo>
                  <a:lnTo>
                    <a:pt x="1428750" y="571500"/>
                  </a:lnTo>
                  <a:lnTo>
                    <a:pt x="1428750" y="1581150"/>
                  </a:lnTo>
                  <a:lnTo>
                    <a:pt x="1714500" y="1581150"/>
                  </a:lnTo>
                  <a:lnTo>
                    <a:pt x="1714500" y="1295400"/>
                  </a:lnTo>
                  <a:lnTo>
                    <a:pt x="2286000" y="1866900"/>
                  </a:lnTo>
                  <a:lnTo>
                    <a:pt x="1714500" y="2438400"/>
                  </a:lnTo>
                  <a:lnTo>
                    <a:pt x="1714500" y="2152650"/>
                  </a:lnTo>
                  <a:lnTo>
                    <a:pt x="571500" y="2152650"/>
                  </a:lnTo>
                  <a:lnTo>
                    <a:pt x="571500" y="2438400"/>
                  </a:lnTo>
                  <a:lnTo>
                    <a:pt x="0" y="1866900"/>
                  </a:lnTo>
                  <a:close/>
                </a:path>
              </a:pathLst>
            </a:custGeom>
            <a:solidFill>
              <a:srgbClr val="e6ec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62"/>
            <p:cNvSpPr/>
            <p:nvPr/>
          </p:nvSpPr>
          <p:spPr>
            <a:xfrm>
              <a:off x="32918400" y="15163920"/>
              <a:ext cx="4876560" cy="1008360"/>
            </a:xfrm>
            <a:prstGeom prst="rect">
              <a:avLst/>
            </a:prstGeom>
            <a:solidFill>
              <a:srgbClr val="d1a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M-PES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16"/>
          <p:cNvSpPr/>
          <p:nvPr/>
        </p:nvSpPr>
        <p:spPr>
          <a:xfrm>
            <a:off x="27724320" y="11125080"/>
            <a:ext cx="122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nking: Successful Hybridized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28789560" y="8686800"/>
            <a:ext cx="1280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ybridity in Development Sectors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kisumumap.jpg"/>
          <p:cNvPicPr/>
          <p:nvPr/>
        </p:nvPicPr>
        <p:blipFill>
          <a:blip r:embed="rId7"/>
          <a:stretch/>
        </p:blipFill>
        <p:spPr>
          <a:xfrm>
            <a:off x="685800" y="4419720"/>
            <a:ext cx="52722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5"/>
          <p:cNvGrpSpPr/>
          <p:nvPr/>
        </p:nvGrpSpPr>
        <p:grpSpPr>
          <a:xfrm>
            <a:off x="12420720" y="15163920"/>
            <a:ext cx="14401800" cy="8719560"/>
            <a:chOff x="12420720" y="15163920"/>
            <a:chExt cx="14401800" cy="8719560"/>
          </a:xfrm>
        </p:grpSpPr>
        <p:grpSp>
          <p:nvGrpSpPr>
            <p:cNvPr id="95" name="Group 25"/>
            <p:cNvGrpSpPr/>
            <p:nvPr/>
          </p:nvGrpSpPr>
          <p:grpSpPr>
            <a:xfrm>
              <a:off x="12420720" y="16382880"/>
              <a:ext cx="14401800" cy="7500600"/>
              <a:chOff x="12420720" y="16382880"/>
              <a:chExt cx="14401800" cy="7500600"/>
            </a:xfrm>
          </p:grpSpPr>
          <p:sp>
            <p:nvSpPr>
              <p:cNvPr id="96" name="TextBox 19"/>
              <p:cNvSpPr/>
              <p:nvPr/>
            </p:nvSpPr>
            <p:spPr>
              <a:xfrm>
                <a:off x="12457080" y="20268720"/>
                <a:ext cx="7308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000000"/>
                    </a:solidFill>
                    <a:latin typeface="Arial"/>
                  </a:rPr>
                  <a:t>Policy Implications: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Box 20"/>
              <p:cNvSpPr/>
              <p:nvPr/>
            </p:nvSpPr>
            <p:spPr>
              <a:xfrm>
                <a:off x="12420720" y="16382880"/>
                <a:ext cx="14401800" cy="7500600"/>
              </a:xfrm>
              <a:prstGeom prst="rect">
                <a:avLst/>
              </a:prstGeom>
              <a:solidFill>
                <a:srgbClr val="fcf1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Development has been criticized as a form of neo-colonialism and Eurocentrism for decades. In order to challenge this label, development agencies should allow hybrid systems, ones that may differ from conventional Western knowledge, a chance to emerge as a way to address Kenyan problems in a way that is based on local knowledge and customs.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Box 12"/>
            <p:cNvSpPr/>
            <p:nvPr/>
          </p:nvSpPr>
          <p:spPr>
            <a:xfrm>
              <a:off x="12535920" y="15163920"/>
              <a:ext cx="708444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400" spc="-1" strike="noStrike">
                  <a:solidFill>
                    <a:srgbClr val="000000"/>
                  </a:solidFill>
                  <a:latin typeface="Arial"/>
                </a:rPr>
                <a:t>Policy Implications: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25"/>
          <p:cNvSpPr/>
          <p:nvPr/>
        </p:nvSpPr>
        <p:spPr>
          <a:xfrm>
            <a:off x="838080" y="25069680"/>
            <a:ext cx="26213040" cy="2287440"/>
          </a:xfrm>
          <a:prstGeom prst="rect">
            <a:avLst/>
          </a:prstGeom>
          <a:solidFill>
            <a:srgbClr val="e8d7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Interviewe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[Colonialism] was like, a sudden way was drawn between our traditional culture and a modern culture… So this lack of continuity- so it is like I have my legs in two worlds. I’m having one leg in my traditional culture… and one leg in the modern, predominantly Western cultu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0"/>
          <p:cNvSpPr/>
          <p:nvPr/>
        </p:nvSpPr>
        <p:spPr>
          <a:xfrm>
            <a:off x="32842080" y="29565720"/>
            <a:ext cx="49532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16:42Z</dcterms:created>
  <dc:creator>Test</dc:creator>
  <dc:description/>
  <dc:language>en-US</dc:language>
  <cp:lastModifiedBy>Office 2004 Test Drive User</cp:lastModifiedBy>
  <dcterms:modified xsi:type="dcterms:W3CDTF">2015-04-10T15:53:56Z</dcterms:modified>
  <cp:revision>47</cp:revision>
  <dc:subject/>
  <dc:title>Slide 1</dc:title>
</cp:coreProperties>
</file>