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38404800"/>
  <p:notesSz cx="51206400" cy="3291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1206400" cy="329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219004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9006280" y="-360"/>
            <a:ext cx="221871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867-BB50-4666-8ACA-A2A9DDB3C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8550080" y="2468520"/>
            <a:ext cx="14106240" cy="1234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5121360" y="15636600"/>
            <a:ext cx="40963680" cy="148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31267440"/>
            <a:ext cx="2219004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9006280" y="31267440"/>
            <a:ext cx="2218716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CD6-928F-422F-9666-47C4F4F65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8550080" y="2468520"/>
            <a:ext cx="14106240" cy="12344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21360" y="15636600"/>
            <a:ext cx="40963680" cy="148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opyright Colin Purrington (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colinpurrington.com/tips/academic/posterdesign)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29006640" y="31267440"/>
            <a:ext cx="221871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FFC-AB5D-44C8-8889-0754A6920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525-E244-4B03-86AE-82300606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3730968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0760" y="23131080"/>
            <a:ext cx="3730968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31C-9D2B-4C0D-A306-B3CEE2C7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0760" y="231310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231310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B29-FCA1-4888-8B09-BAA52B4F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520" y="110962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920" y="110962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0760" y="231310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520" y="231310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920" y="23131080"/>
            <a:ext cx="1201356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D06-65D4-45C5-9BA0-01FD3597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0760" y="11096280"/>
            <a:ext cx="37309680" cy="230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0F1-B3F8-43F6-A86A-6460AFC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3730968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4C4-E621-4085-8BF9-9B5EC4BA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820700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11096280"/>
            <a:ext cx="1820700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B66-F06D-44C7-B75C-28A73B46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294-37AB-45BA-8064-66912A0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0760" y="3413160"/>
            <a:ext cx="37309680" cy="296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E05-DD5F-4B6C-933D-B42324EE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11096280"/>
            <a:ext cx="1820700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0760" y="231310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C90-D486-4031-9D16-062EBBD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820700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231310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9F2-FC1E-4726-8046-CA541B5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07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11096280"/>
            <a:ext cx="1820700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0760" y="23131080"/>
            <a:ext cx="37309680" cy="109904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B40-9FCF-4914-BEDB-3CCFF24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0760" y="3413160"/>
            <a:ext cx="37309680" cy="64008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0760" y="11096280"/>
            <a:ext cx="37309680" cy="230410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1640" indent="-127332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2" marL="509436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3" marL="713268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4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0760" y="3499128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7240" y="34991280"/>
            <a:ext cx="13896720" cy="25592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6440" y="34991280"/>
            <a:ext cx="9144000" cy="25592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A36-26B5-4530-A30B-D5AD3C733A95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0"/>
          <p:cNvSpPr/>
          <p:nvPr/>
        </p:nvSpPr>
        <p:spPr>
          <a:xfrm>
            <a:off x="0" y="0"/>
            <a:ext cx="43891200" cy="38404800"/>
          </a:xfrm>
          <a:prstGeom prst="rect">
            <a:avLst/>
          </a:prstGeom>
          <a:solidFill>
            <a:srgbClr val="c8fffe">
              <a:alpha val="34000"/>
            </a:srgbClr>
          </a:solidFill>
          <a:ln w="9360">
            <a:solidFill>
              <a:srgbClr val="d8d8d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1876040" y="7210440"/>
            <a:ext cx="20186640" cy="9128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oblem: Undereducated Students and Facul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olby’s procedure for coping with sexual misconduct is ineffici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jority of acts of sexual misconduct are unaddressed and unrepor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Students and faculty are undereducat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ny students are unaware of what justifies as sexual miscon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erpetrators often do not know what qualifies as sexual misconduct and victims sometimes do not realize that an act of sexual misconduct has occur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instances of sexual misconduct have lifelong consequences for the vict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T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Is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ny victims blame them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not enough counselors to support Colby stud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108080" y="7238880"/>
            <a:ext cx="9775800" cy="14789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tistics of Sexual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xual assault effects 100% of people. It is a global iss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hundred and seven seconds, a sexual assault occurs in the United Sta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most twenty percent of women surveyed have “been raped or experienced an attempted rape at some poin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enty-five percent of women have been abused or assaulted by a significant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% of sexual assault victims are under the age of thir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8% of sexual assaults are not reported to polic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16% of all rapes were reported to law enforcement” in 201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2006 alone, 300,000 college women were rape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ut 3% of American men have experienced an attempted or completed rape in their lifetim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40920" y="32005440"/>
            <a:ext cx="9221760" cy="5276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 to all whom aided in the development of this project. Especial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cey She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ly Schusterbau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ya Kure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ly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1882520" y="17216280"/>
            <a:ext cx="20180160" cy="1366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Solution: Distributing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reation of a mandatory semester long course Colby students must take in their first four semesters. The class would count for two cred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urse would meet once per week for an hour, and be largely discussion ba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 size would be small and limited to fifteen students per s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iculum would include (but would not be limited to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is sexual misconduct? What are the types of sexual misconduct (i.e. physical vs. non-physical)? What undermines a culture of con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gal repercussions for perpetrators and emotional/physical consequences for victi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ow to prevent sexual assault and report sexual miscondu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x, sexuality, racism, sexism, homophobia, stereotypes, et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stander intervention and supporting friends who have been assaul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would it mean to live in a culture of sexual consent, sexual safety, and sexual resp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means no vs. yes means yes mov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busive 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xual misconduct through techn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class must try to solve a given issue, such as how to increase reporting of sexual assault at Colby or how to combat victim bla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a new class, teachers must go through a more extensive training process in order to understand the reporting process from a faculty stand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unselors must be available to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3061320" y="13639680"/>
            <a:ext cx="9739440" cy="1724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 with Emily Schusterbauer, Dir. of the Gender and Sexual Diversity Program and Assoc. Dir. of the Pugh Center, to create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t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 out to students, faculty, alumni, and par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tition to Provost and Dean of Faculty Lori Kletzer and Assoc. Vice President for Academic Affairs and Assoc. Dean of Faculty P. Greenw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Create a budget. Start extensi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r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oc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ing 25% of Colby freshmen and sophomores will take the course each given semester, Colby will educate roughly 360 individuals per semester and will need to offer twenty-four cla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ing educators can teach five, one-hour classes per week, Colby must hire at least five new teac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verage amount a given Colby assistant is paid annually is $76,678, multiplied by five teachers is $383,390 per year to pay sala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classrooms to host courses as well as office spaces for new facul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495440" y="4096440"/>
            <a:ext cx="408859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274320" bIns="27432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aura W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English 115A ~ Professor Sheri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ext Box 15" descr=""/>
          <p:cNvPicPr/>
          <p:nvPr/>
        </p:nvPicPr>
        <p:blipFill>
          <a:blip r:embed="rId1"/>
          <a:stretch/>
        </p:blipFill>
        <p:spPr>
          <a:xfrm>
            <a:off x="1085760" y="31954680"/>
            <a:ext cx="20578680" cy="5651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0"/>
          <p:cNvSpPr/>
          <p:nvPr/>
        </p:nvSpPr>
        <p:spPr>
          <a:xfrm>
            <a:off x="33029640" y="31977000"/>
            <a:ext cx="9739080" cy="53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by Security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7-859-5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by Security Non-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7-859-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rison-Foster Healt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7-859-4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exual Assault Telephone Ho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-656-46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80" descr=""/>
          <p:cNvPicPr/>
          <p:nvPr/>
        </p:nvPicPr>
        <p:blipFill>
          <a:blip r:embed="rId2"/>
          <a:stretch/>
        </p:blipFill>
        <p:spPr>
          <a:xfrm>
            <a:off x="768240" y="1670040"/>
            <a:ext cx="42391080" cy="186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1108080" y="23477400"/>
            <a:ext cx="9775800" cy="737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creen_Shot_2014-05-08_at_8.54.54_PM.png"/>
          <p:cNvPicPr/>
          <p:nvPr/>
        </p:nvPicPr>
        <p:blipFill>
          <a:blip r:embed="rId3"/>
          <a:stretch/>
        </p:blipFill>
        <p:spPr>
          <a:xfrm>
            <a:off x="1862280" y="24068160"/>
            <a:ext cx="8758080" cy="667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33039000" y="7210440"/>
            <a:ext cx="9739440" cy="543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4400" rIns="914400" tIns="457200" bIns="9144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lby-college-logo.jpg"/>
          <p:cNvPicPr/>
          <p:nvPr/>
        </p:nvPicPr>
        <p:blipFill>
          <a:blip r:embed="rId4"/>
          <a:stretch/>
        </p:blipFill>
        <p:spPr>
          <a:xfrm>
            <a:off x="33985080" y="7848720"/>
            <a:ext cx="787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08:55Z</dcterms:created>
  <dc:creator>Colin Purrington</dc:creator>
  <dc:description>This template is free for you to use to create your poster.  Do not host this file on your own server, even in adapted form. If you need to post a template, please steal somebody else's or just make your own (it's easy).  Thanks!</dc:description>
  <cp:keywords>poster conference session meeting symposium research presentation</cp:keywords>
  <dc:language>en-US</dc:language>
  <cp:lastModifiedBy>Office 2004 Test Drive User</cp:lastModifiedBy>
  <cp:lastPrinted>2011-10-30T12:54:45Z</cp:lastPrinted>
  <dcterms:modified xsi:type="dcterms:W3CDTF">2015-04-24T23:22:03Z</dcterms:modified>
  <cp:revision>582</cp:revision>
  <dc:subject>conference poster</dc:subject>
  <dc:title>Poster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Colin Purrington</vt:lpwstr>
  </property>
</Properties>
</file>