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51206400" cy="32004000"/>
  <p:notesSz cx="32918400" cy="5120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74FB2-4B5E-4504-AA53-60D5AE8AA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40120" y="9246960"/>
            <a:ext cx="43526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40120" y="19275840"/>
            <a:ext cx="43526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1DE46-7DCF-4B53-A2BD-75377A307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4012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4012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D3D3C-E7AE-4519-AB8B-4DC94B9DA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40120" y="924696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560" y="924696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2640" y="924696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40120" y="1927584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560" y="1927584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2640" y="19275840"/>
            <a:ext cx="14015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4DB23-5B5F-46CD-AC69-BCA5903D7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40120" y="9246960"/>
            <a:ext cx="43526160" cy="1920060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D1B42-27F2-482B-BDFA-36E8EFCD7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40120" y="9246960"/>
            <a:ext cx="4352616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A6155-554B-4504-A96A-E37D3C1D3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4012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BDF2E-6AE9-467C-B89E-399446510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9594A-2E27-4274-B027-B3DE72F05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844360"/>
            <a:ext cx="43526160" cy="2472696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BD7D3-4FA8-4383-8DD5-3C32D44DB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4012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4012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6456E-602F-4EA3-9E66-C593BBABC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40120" y="9246960"/>
            <a:ext cx="21240720" cy="192006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27584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27573-4487-4FEB-A620-E2E9403FA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4012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246960"/>
            <a:ext cx="2124072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40120" y="19275840"/>
            <a:ext cx="43526160" cy="915840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E6054-0B72-4546-8AE3-6870261B29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844360"/>
            <a:ext cx="43526160" cy="533412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40120" y="9246960"/>
            <a:ext cx="43526160" cy="1920060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9760" y="29159280"/>
            <a:ext cx="10667880" cy="213336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7496000" y="29159280"/>
            <a:ext cx="16214400" cy="213336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36698040" y="29159280"/>
            <a:ext cx="10667880" cy="2133360"/>
          </a:xfrm>
          <a:prstGeom prst="rect">
            <a:avLst/>
          </a:prstGeom>
          <a:noFill/>
          <a:ln w="0">
            <a:noFill/>
          </a:ln>
        </p:spPr>
        <p:txBody>
          <a:bodyPr lIns="407520" rIns="407520" tIns="203760" bIns="203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C03D4-3819-4A50-9E72-4655F5EE7848}"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3" descr=""/>
          <p:cNvPicPr/>
          <p:nvPr/>
        </p:nvPicPr>
        <p:blipFill>
          <a:blip r:embed="rId1"/>
          <a:stretch/>
        </p:blipFill>
        <p:spPr>
          <a:xfrm>
            <a:off x="33602760" y="18738720"/>
            <a:ext cx="15782760" cy="10525320"/>
          </a:xfrm>
          <a:prstGeom prst="rect">
            <a:avLst/>
          </a:prstGeom>
          <a:ln w="0">
            <a:noFill/>
          </a:ln>
        </p:spPr>
      </p:pic>
      <p:sp>
        <p:nvSpPr>
          <p:cNvPr id="42" name="TextBox 6"/>
          <p:cNvSpPr/>
          <p:nvPr/>
        </p:nvSpPr>
        <p:spPr>
          <a:xfrm>
            <a:off x="13182480" y="1108080"/>
            <a:ext cx="28499040" cy="314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Iowan Old Style Black"/>
                <a:ea typeface="Iowan Old Style Black"/>
              </a:rPr>
              <a:t>How Healthier Dining Hall Food Can Contribute to a Healthier Student Body</a:t>
            </a:r>
            <a:endParaRPr b="0" lang="en-US" sz="10000" spc="-1" strike="noStrike">
              <a:solidFill>
                <a:srgbClr val="000000"/>
              </a:solidFill>
              <a:latin typeface="Arial"/>
            </a:endParaRPr>
          </a:p>
        </p:txBody>
      </p:sp>
      <p:sp>
        <p:nvSpPr>
          <p:cNvPr id="43" name="TextBox 7"/>
          <p:cNvSpPr/>
          <p:nvPr/>
        </p:nvSpPr>
        <p:spPr>
          <a:xfrm>
            <a:off x="33602760" y="6970680"/>
            <a:ext cx="15133320" cy="11885760"/>
          </a:xfrm>
          <a:prstGeom prst="rect">
            <a:avLst/>
          </a:prstGeom>
          <a:noFill/>
          <a:ln w="9360">
            <a:solidFill>
              <a:srgbClr val="000000"/>
            </a:solidFill>
            <a:miter/>
          </a:ln>
        </p:spPr>
        <p:style>
          <a:lnRef idx="0"/>
          <a:fillRef idx="0"/>
          <a:effectRef idx="0"/>
          <a:fontRef idx="minor"/>
        </p:style>
        <p:txBody>
          <a:bodyPr lIns="274320" rIns="274320" tIns="274320" bIns="2743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lairMdITC TT-Medium"/>
                <a:ea typeface="BlairMdITC TT-Medium"/>
              </a:rPr>
              <a:t>The Freshman Fifteen</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Myth</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0" lang="en-US" sz="3600" spc="-1" strike="noStrike">
                <a:solidFill>
                  <a:srgbClr val="000000"/>
                </a:solidFill>
                <a:latin typeface="Arial"/>
              </a:rPr>
              <a:t>Upon coming to college, many freshman worry that they will gain the infamous </a:t>
            </a:r>
            <a:r>
              <a:rPr b="0" lang="ja-JP" sz="3600" spc="-1" strike="noStrike">
                <a:solidFill>
                  <a:srgbClr val="000000"/>
                </a:solidFill>
                <a:latin typeface="Arial"/>
              </a:rPr>
              <a:t>“</a:t>
            </a:r>
            <a:r>
              <a:rPr b="0" lang="en-US" sz="3600" spc="-1" strike="noStrike">
                <a:solidFill>
                  <a:srgbClr val="000000"/>
                </a:solidFill>
                <a:latin typeface="Arial"/>
              </a:rPr>
              <a:t>Freshman Fifteen</a:t>
            </a:r>
            <a:r>
              <a:rPr b="0" lang="ja-JP" sz="3600" spc="-1" strike="noStrike">
                <a:solidFill>
                  <a:srgbClr val="000000"/>
                </a:solidFill>
                <a:latin typeface="Arial"/>
              </a:rPr>
              <a:t>”</a:t>
            </a:r>
            <a:r>
              <a:rPr b="0" lang="en-US" sz="3600" spc="-1" strike="noStrike">
                <a:solidFill>
                  <a:srgbClr val="000000"/>
                </a:solidFill>
                <a:latin typeface="Arial"/>
              </a:rPr>
              <a:t>. This, however, is not entirely true. Although many students will experience some amount of weight gain, it is rarely as much as 15 pounds. That being said, there is still some validity to this phenomenon.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Reality</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0" lang="en-US" sz="3600" spc="-1" strike="noStrike">
                <a:solidFill>
                  <a:srgbClr val="000000"/>
                </a:solidFill>
                <a:latin typeface="Arial"/>
              </a:rPr>
              <a:t>Researchers of this phenomenon have found average weight gain of college freshman to range from as little as 3.86 lbs to an average of 8.8 lbs. Of course everybody is different and so averages only give a general idea of this trend even though this affects people on an individual level.</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 name="TextBox 9"/>
          <p:cNvSpPr/>
          <p:nvPr/>
        </p:nvSpPr>
        <p:spPr>
          <a:xfrm>
            <a:off x="1981080" y="6970680"/>
            <a:ext cx="10250640" cy="11734920"/>
          </a:xfrm>
          <a:prstGeom prst="rect">
            <a:avLst/>
          </a:prstGeom>
          <a:noFill/>
          <a:ln w="9360">
            <a:solidFill>
              <a:srgbClr val="000000"/>
            </a:solidFill>
            <a:miter/>
          </a:ln>
        </p:spPr>
        <p:style>
          <a:lnRef idx="0"/>
          <a:fillRef idx="0"/>
          <a:effectRef idx="0"/>
          <a:fontRef idx="minor"/>
        </p:style>
        <p:txBody>
          <a:bodyPr lIns="457200" rIns="457200" tIns="45720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lairMdITC TT-Medium"/>
                <a:ea typeface="BlairMdITC TT-Medium"/>
              </a:rPr>
              <a:t>What Are The Issues?</a:t>
            </a:r>
            <a:endParaRPr b="0" lang="en-US" sz="54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ypically, there is only one cooked vegetable option for lunch and possibly two for dinner, not including the salad bar. </a:t>
            </a:r>
            <a:endParaRPr b="0" lang="en-US" sz="3600" spc="-1" strike="noStrike">
              <a:solidFill>
                <a:srgbClr val="000000"/>
              </a:solidFill>
              <a:latin typeface="Arial"/>
            </a:endParaRPr>
          </a:p>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egetarians are often forced to turn to pizza or pasta in order to round out their meals. </a:t>
            </a:r>
            <a:endParaRPr b="0" lang="en-US" sz="3600" spc="-1" strike="noStrike">
              <a:solidFill>
                <a:srgbClr val="000000"/>
              </a:solidFill>
              <a:latin typeface="Arial"/>
            </a:endParaRPr>
          </a:p>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though apples, bananas, and oranges are always served throughout the day, they are often unripe, bruised, or overripe. </a:t>
            </a:r>
            <a:endParaRPr b="0" lang="en-US" sz="3600" spc="-1" strike="noStrike">
              <a:solidFill>
                <a:srgbClr val="000000"/>
              </a:solidFill>
              <a:latin typeface="Arial"/>
            </a:endParaRPr>
          </a:p>
          <a:p>
            <a:pPr>
              <a:buClr>
                <a:srgbClr val="000000"/>
              </a:buClr>
              <a:buSzPct val="113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resh, cut up fruits served for breakfast at Bobs and Dana are extremely popular, yet they are promptly taken away once breakfast ends. </a:t>
            </a:r>
            <a:endParaRPr b="0" lang="en-US" sz="3600" spc="-1" strike="noStrike">
              <a:solidFill>
                <a:srgbClr val="000000"/>
              </a:solidFill>
              <a:latin typeface="Arial"/>
            </a:endParaRPr>
          </a:p>
          <a:p>
            <a:pPr>
              <a:buClr>
                <a:srgbClr val="000000"/>
              </a:buClr>
              <a:buSzPct val="113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fortunately, breakfast is the meal that students are most likely to skip! </a:t>
            </a:r>
            <a:endParaRPr b="0" lang="en-US" sz="3600" spc="-1" strike="noStrike">
              <a:solidFill>
                <a:srgbClr val="000000"/>
              </a:solidFill>
              <a:latin typeface="Arial"/>
            </a:endParaRPr>
          </a:p>
          <a:p>
            <a:pPr>
              <a:buClr>
                <a:srgbClr val="000000"/>
              </a:buClr>
              <a:buSzPct val="113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o many unhealthy food offerings e.g. pizzas and hamburgers</a:t>
            </a:r>
            <a:endParaRPr b="0" lang="en-US" sz="3600" spc="-1" strike="noStrike">
              <a:solidFill>
                <a:srgbClr val="000000"/>
              </a:solidFill>
              <a:latin typeface="Arial"/>
            </a:endParaRPr>
          </a:p>
          <a:p>
            <a:pPr>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urrently, nutritional facts are rarely posted for the meals served at each dining hall. </a:t>
            </a:r>
            <a:endParaRPr b="0" lang="en-US" sz="3600" spc="-1" strike="noStrike">
              <a:solidFill>
                <a:srgbClr val="000000"/>
              </a:solidFill>
              <a:latin typeface="Arial"/>
            </a:endParaRPr>
          </a:p>
        </p:txBody>
      </p:sp>
      <p:sp>
        <p:nvSpPr>
          <p:cNvPr id="45" name="TextBox 10"/>
          <p:cNvSpPr/>
          <p:nvPr/>
        </p:nvSpPr>
        <p:spPr>
          <a:xfrm>
            <a:off x="13182480" y="6970680"/>
            <a:ext cx="19507320" cy="21942720"/>
          </a:xfrm>
          <a:prstGeom prst="rect">
            <a:avLst/>
          </a:prstGeom>
          <a:solidFill>
            <a:srgbClr val="a5bcff">
              <a:alpha val="46000"/>
            </a:srgbClr>
          </a:solidFill>
          <a:ln w="9360">
            <a:solidFill>
              <a:srgbClr val="000000"/>
            </a:solidFill>
            <a:miter/>
          </a:ln>
        </p:spPr>
        <p:style>
          <a:lnRef idx="0"/>
          <a:fillRef idx="0"/>
          <a:effectRef idx="0"/>
          <a:fontRef idx="minor"/>
        </p:style>
        <p:txBody>
          <a:bodyPr lIns="457200" rIns="457200" tIns="640080" bIns="457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lairMdITC TT-Medium"/>
                <a:ea typeface="BlairMdITC TT-Medium"/>
              </a:rPr>
              <a:t>Proposals For Change </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ore Vegetables!</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 propose that for some days of the week Colby could have the equivalent of </a:t>
            </a:r>
            <a:r>
              <a:rPr b="0" lang="ja-JP" sz="3600" spc="-1" strike="noStrike">
                <a:solidFill>
                  <a:srgbClr val="000000"/>
                </a:solidFill>
                <a:latin typeface="Arial"/>
              </a:rPr>
              <a:t>“</a:t>
            </a:r>
            <a:r>
              <a:rPr b="0" lang="en-US" sz="3600" spc="-1" strike="noStrike">
                <a:solidFill>
                  <a:srgbClr val="000000"/>
                </a:solidFill>
                <a:latin typeface="Arial"/>
              </a:rPr>
              <a:t>Meatless Monday</a:t>
            </a:r>
            <a:r>
              <a:rPr b="0" lang="ja-JP" sz="3600" spc="-1" strike="noStrike">
                <a:solidFill>
                  <a:srgbClr val="000000"/>
                </a:solidFill>
                <a:latin typeface="Arial"/>
              </a:rPr>
              <a:t>”</a:t>
            </a:r>
            <a:r>
              <a:rPr b="0" lang="en-US" sz="3600" spc="-1" strike="noStrike">
                <a:solidFill>
                  <a:srgbClr val="000000"/>
                </a:solidFill>
                <a:latin typeface="Arial"/>
              </a:rPr>
              <a:t> at one of the dining halls. This would force some students to make healthier choices at least one day out of the week if they choose to eat at that particular dining hall, and it would provide a larger array of options to a portion of the student body that is often overlooke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Fruit For Lunch And Dinner</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 propose that the fresh, cut up fruit from breakfast is left out all day until it is gone. Oftentimes it is taken away as soon as </a:t>
            </a:r>
            <a:r>
              <a:rPr b="0" lang="ja-JP" sz="3600" spc="-1" strike="noStrike">
                <a:solidFill>
                  <a:srgbClr val="000000"/>
                </a:solidFill>
                <a:latin typeface="Arial"/>
              </a:rPr>
              <a:t>“</a:t>
            </a:r>
            <a:r>
              <a:rPr b="0" lang="en-US" sz="3600" spc="-1" strike="noStrike">
                <a:solidFill>
                  <a:srgbClr val="000000"/>
                </a:solidFill>
                <a:latin typeface="Arial"/>
              </a:rPr>
              <a:t>breakfast</a:t>
            </a:r>
            <a:r>
              <a:rPr b="0" lang="ja-JP" sz="3600" spc="-1" strike="noStrike">
                <a:solidFill>
                  <a:srgbClr val="000000"/>
                </a:solidFill>
                <a:latin typeface="Arial"/>
              </a:rPr>
              <a:t>”</a:t>
            </a:r>
            <a:r>
              <a:rPr b="0" lang="en-US" sz="3600" spc="-1" strike="noStrike">
                <a:solidFill>
                  <a:srgbClr val="000000"/>
                </a:solidFill>
                <a:latin typeface="Arial"/>
              </a:rPr>
              <a:t> ends even though there is a considerable amount left. More fruit would of course come at a higher cost to the school and so either the dining hall budgets should be increased to account for this or perhaps money could be reallocated from one unhealthier opt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ducing Temptation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 propose that for two or three days out of the week, one or two pizza options be removed. Even though it is extremely popular, that doesn’t mean it is good for students to eat on a daily basis. The dining halls are capable of creating healthy options that are just as desirable. The money not spent on extra pizzas could be put into buying more fresh fruit or vegetabl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ncreased Education</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Luckily, the school has already recognized this inconstancy and is working to fix it! As of June 2015, monitors will be installed atop each food station that will provide added information about the food being served. This will help students not only understand what they are putting into their bodies, but better keep track of servings, caloric intake, and mor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6" name="Picture 11" descr=""/>
          <p:cNvPicPr/>
          <p:nvPr/>
        </p:nvPicPr>
        <p:blipFill>
          <a:blip r:embed="rId2"/>
          <a:stretch/>
        </p:blipFill>
        <p:spPr>
          <a:xfrm>
            <a:off x="43392600" y="717480"/>
            <a:ext cx="5099040" cy="5099040"/>
          </a:xfrm>
          <a:prstGeom prst="rect">
            <a:avLst/>
          </a:prstGeom>
          <a:ln w="0">
            <a:noFill/>
          </a:ln>
        </p:spPr>
      </p:pic>
      <p:pic>
        <p:nvPicPr>
          <p:cNvPr id="47" name="Picture 12" descr=""/>
          <p:cNvPicPr/>
          <p:nvPr/>
        </p:nvPicPr>
        <p:blipFill>
          <a:blip r:embed="rId3"/>
          <a:stretch/>
        </p:blipFill>
        <p:spPr>
          <a:xfrm>
            <a:off x="1981080" y="1341360"/>
            <a:ext cx="10250640" cy="3367080"/>
          </a:xfrm>
          <a:prstGeom prst="rect">
            <a:avLst/>
          </a:prstGeom>
          <a:ln w="0">
            <a:noFill/>
          </a:ln>
        </p:spPr>
      </p:pic>
      <p:sp>
        <p:nvSpPr>
          <p:cNvPr id="48" name="TextBox 10"/>
          <p:cNvSpPr/>
          <p:nvPr/>
        </p:nvSpPr>
        <p:spPr>
          <a:xfrm>
            <a:off x="1981080" y="21139200"/>
            <a:ext cx="10250640" cy="7224120"/>
          </a:xfrm>
          <a:prstGeom prst="rect">
            <a:avLst/>
          </a:prstGeom>
          <a:noFill/>
          <a:ln w="9360">
            <a:solidFill>
              <a:srgbClr val="000000"/>
            </a:solidFill>
            <a:miter/>
          </a:ln>
        </p:spPr>
        <p:style>
          <a:lnRef idx="0"/>
          <a:fillRef idx="0"/>
          <a:effectRef idx="0"/>
          <a:fontRef idx="minor"/>
        </p:style>
        <p:txBody>
          <a:bodyPr lIns="457200" rIns="457200" tIns="457200" bIns="457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lairMdITC TT-Medium"/>
                <a:ea typeface="BlairMdITC TT-Medium"/>
              </a:rPr>
              <a:t>Why Does This Matter?</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s of the past 30 years, obesity has become a growing problem in the United States, and this trend of weight gain throughout college may have dangerous implications for the future. Students do not develop weight problems overnight; however, the eating habits formed in college have long term affects on our eating habits. College is a time when healthy eating habits should be formed.</a:t>
            </a:r>
            <a:endParaRPr b="0" lang="en-US" sz="3600" spc="-1" strike="noStrike">
              <a:solidFill>
                <a:srgbClr val="000000"/>
              </a:solidFill>
              <a:latin typeface="Arial"/>
            </a:endParaRPr>
          </a:p>
        </p:txBody>
      </p:sp>
      <p:sp>
        <p:nvSpPr>
          <p:cNvPr id="49" name="TextBox 12"/>
          <p:cNvSpPr/>
          <p:nvPr/>
        </p:nvSpPr>
        <p:spPr>
          <a:xfrm>
            <a:off x="22210200" y="4662360"/>
            <a:ext cx="957168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lairMdITC TT-Medium"/>
                <a:ea typeface="BlairMdITC TT-Medium"/>
              </a:rPr>
              <a:t>Kaci Ku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lairMdITC TT-Medium"/>
                <a:ea typeface="BlairMdITC TT-Medium"/>
              </a:rPr>
              <a:t>English 115 A  Professor Sheriff</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4T17:47:23Z</dcterms:created>
  <dc:creator>Colin Purrington</dc:creator>
  <dc:description>This template is free for you to use to create your poster.  Do not host this file on your own server, even in adapted form. If you need to post a template, please steal somebody else's or just make your own (it's easy).  Thanks!</dc:description>
  <cp:keywords>poster conference session meeting symposium research presentation</cp:keywords>
  <dc:language>en-US</dc:language>
  <cp:lastModifiedBy>Kaci Kus</cp:lastModifiedBy>
  <cp:lastPrinted>2014-01-28T16:27:11Z</cp:lastPrinted>
  <dcterms:modified xsi:type="dcterms:W3CDTF">2015-04-24T18:09:51Z</dcterms:modified>
  <cp:revision>556</cp:revision>
  <dc:subject>conference poster</dc:subject>
  <dc:title>Poster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Colin Purrington</vt:lpwstr>
  </property>
</Properties>
</file>