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43891200" cy="32918400"/>
  <p:notesSz cx="32461200" cy="4343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32461200" cy="434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1406700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8385920" y="-360"/>
            <a:ext cx="1406700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9CB10-5A2B-4F28-9BB3-FA480B8A6C4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5371920" y="3257640"/>
            <a:ext cx="21717000" cy="1628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r>
              <a:rPr b="0" lang="en-US" sz="21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3246480" y="20631240"/>
            <a:ext cx="25968240" cy="19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41253840"/>
            <a:ext cx="1406700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8385920" y="41253840"/>
            <a:ext cx="1406700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F40D2-531C-4050-9C7E-8880BDBAE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5372280" y="3257640"/>
            <a:ext cx="21717000" cy="1628784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3246480" y="20631240"/>
            <a:ext cx="25968240" cy="19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18386280" y="41254200"/>
            <a:ext cx="1406700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02E77-2AFD-4E3B-A394-CDA2AEA1D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28C8-7BEC-4994-AD1D-10611F03A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3950352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93840" y="19027440"/>
            <a:ext cx="3950352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F91B-317A-4661-BC67-BBE2B6BC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93840" y="1902744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435920" y="1902744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BB85-43E9-4786-BB1C-EE47FA517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550200" y="767988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906200" y="767988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93840" y="1902744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550200" y="1902744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906200" y="19027440"/>
            <a:ext cx="1271988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ACC6-61AA-4B43-B1DE-2A32EC284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93840" y="7679880"/>
            <a:ext cx="39503520" cy="2172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49"/>
              </a:spcBef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5E47-3EA1-4EF8-A649-591D8DB1E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3950352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377C-7F5A-4087-B219-75563AD42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111B-F583-4938-98FB-70EEFD1AA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988C-55A3-4A52-918A-3BCDFF15E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93840" y="1317600"/>
            <a:ext cx="39503520" cy="254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49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6348-0D6A-427D-BAB6-5C761DC17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93840" y="1902744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5F2C-D168-40F8-8097-67A7E8A0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435920" y="1902744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7C3C-7414-4F0A-904A-539D3A4D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9384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435920" y="7679880"/>
            <a:ext cx="1927764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93840" y="19027440"/>
            <a:ext cx="39503520" cy="103626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6C67-74ED-4CB4-9C0A-A15EE564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93840" y="1317600"/>
            <a:ext cx="3950352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r>
              <a:rPr b="0" lang="en-US" sz="21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93840" y="7679880"/>
            <a:ext cx="39503520" cy="217249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marL="1646280" indent="-1646280">
              <a:spcBef>
                <a:spcPts val="3849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1" marL="3565440" indent="-1371600">
              <a:spcBef>
                <a:spcPts val="3849"/>
              </a:spcBef>
              <a:buClr>
                <a:srgbClr val="000000"/>
              </a:buClr>
              <a:buFont typeface="Arial"/>
              <a:buChar char="–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2" marL="5486400" indent="-1096920">
              <a:spcBef>
                <a:spcPts val="3849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3" marL="7680240" indent="-1096920">
              <a:spcBef>
                <a:spcPts val="3849"/>
              </a:spcBef>
              <a:buClr>
                <a:srgbClr val="000000"/>
              </a:buClr>
              <a:buFont typeface="Arial"/>
              <a:buChar char="–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4" marL="9875880" indent="-109692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5" marL="9875880" indent="-109692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6" marL="9875880" indent="-109692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93840" y="29976840"/>
            <a:ext cx="10242720" cy="22860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995440" y="29976840"/>
            <a:ext cx="13900320" cy="22860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1454640" y="29976840"/>
            <a:ext cx="10242720" cy="22860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B08C3-18A3-4CE4-9BDB-99B1638778F0}" type="slidenum">
              <a:rPr b="0" lang="en-US" sz="6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Colby_seal"/>
          <p:cNvPicPr/>
          <p:nvPr/>
        </p:nvPicPr>
        <p:blipFill>
          <a:blip r:embed="rId1"/>
          <a:stretch/>
        </p:blipFill>
        <p:spPr>
          <a:xfrm>
            <a:off x="241200" y="304920"/>
            <a:ext cx="4102200" cy="4038480"/>
          </a:xfrm>
          <a:prstGeom prst="rect">
            <a:avLst/>
          </a:prstGeom>
          <a:ln w="0">
            <a:noFill/>
          </a:ln>
        </p:spPr>
      </p:pic>
      <p:sp>
        <p:nvSpPr>
          <p:cNvPr id="49" name="TextBox 1"/>
          <p:cNvSpPr/>
          <p:nvPr/>
        </p:nvSpPr>
        <p:spPr>
          <a:xfrm>
            <a:off x="4343400" y="173160"/>
            <a:ext cx="3520440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600" spc="-1" strike="noStrike">
                <a:solidFill>
                  <a:srgbClr val="c00000"/>
                </a:solidFill>
                <a:latin typeface="Constantia"/>
              </a:rPr>
              <a:t>An Iron Fist and A Velvet Glove: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Constantia"/>
              </a:rPr>
              <a:t>Mary McLeod Bethune and Her Commitment to Black Education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en-US" sz="6600" spc="-1" strike="noStrike">
                <a:solidFill>
                  <a:srgbClr val="000000"/>
                </a:solidFill>
                <a:latin typeface="Constantia"/>
              </a:rPr>
              <a:t>Tionna C. Haynes ‘1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29945160" y="5475240"/>
            <a:ext cx="8924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00000"/>
                </a:solidFill>
                <a:latin typeface="Constantia"/>
              </a:rPr>
              <a:t>The Road to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00000"/>
                </a:solidFill>
                <a:latin typeface="Constantia"/>
              </a:rPr>
              <a:t>Bethune-Cookman Universit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16292520" y="16673400"/>
            <a:ext cx="117698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00000"/>
                </a:solidFill>
                <a:latin typeface="Constantia"/>
              </a:rPr>
              <a:t>The Female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00000"/>
                </a:solidFill>
                <a:latin typeface="Constantia"/>
              </a:rPr>
              <a:t>Booker T. Washingt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Mary McLeod Bethune (1875-1955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546120" y="4991040"/>
            <a:ext cx="1440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00000"/>
                </a:solidFill>
                <a:latin typeface="Constantia"/>
              </a:rPr>
              <a:t>“</a:t>
            </a:r>
            <a:r>
              <a:rPr b="0" lang="en-US" sz="7200" spc="-1" strike="noStrike">
                <a:solidFill>
                  <a:srgbClr val="c00000"/>
                </a:solidFill>
                <a:latin typeface="Constantia"/>
              </a:rPr>
              <a:t>The Heart, Head, and Hand”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2"/>
          <a:stretch/>
        </p:blipFill>
        <p:spPr>
          <a:xfrm>
            <a:off x="18538920" y="5154480"/>
            <a:ext cx="7277040" cy="10599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"/>
          <p:cNvPicPr/>
          <p:nvPr/>
        </p:nvPicPr>
        <p:blipFill>
          <a:blip r:embed="rId3"/>
          <a:stretch/>
        </p:blipFill>
        <p:spPr>
          <a:xfrm>
            <a:off x="3470400" y="7054920"/>
            <a:ext cx="7467480" cy="9126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"/>
          <p:cNvPicPr/>
          <p:nvPr/>
        </p:nvPicPr>
        <p:blipFill>
          <a:blip r:embed="rId4"/>
          <a:stretch/>
        </p:blipFill>
        <p:spPr>
          <a:xfrm>
            <a:off x="37809360" y="4302000"/>
            <a:ext cx="5762880" cy="5762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5"/>
          <a:stretch/>
        </p:blipFill>
        <p:spPr>
          <a:xfrm>
            <a:off x="31030920" y="22398120"/>
            <a:ext cx="11737800" cy="2895480"/>
          </a:xfrm>
          <a:prstGeom prst="rect">
            <a:avLst/>
          </a:prstGeom>
          <a:ln w="0">
            <a:noFill/>
          </a:ln>
        </p:spPr>
      </p:pic>
      <p:sp>
        <p:nvSpPr>
          <p:cNvPr id="57" name="TextBox 9"/>
          <p:cNvSpPr/>
          <p:nvPr/>
        </p:nvSpPr>
        <p:spPr>
          <a:xfrm>
            <a:off x="29945160" y="10672920"/>
            <a:ext cx="12823560" cy="124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1904 - Bethune established the Daytona Educational and Industrial Training Institu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1923 – Merger with Cookman Institute to make a coeducational high schoo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1931 - Bethune-Cookman became a two-year colleg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1941 – Bethune-Cookman became a four-year colleg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2007 – Bethune Cookman became a university with its addition of a Master’s degree progra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0"/>
          <p:cNvSpPr/>
          <p:nvPr/>
        </p:nvSpPr>
        <p:spPr>
          <a:xfrm>
            <a:off x="907920" y="16938720"/>
            <a:ext cx="12593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Bethune learned about the “heart, head, and hand” educational philosophy as a student at the Scotia Academy in North Carolina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1"/>
          <p:cNvSpPr/>
          <p:nvPr/>
        </p:nvSpPr>
        <p:spPr>
          <a:xfrm>
            <a:off x="907920" y="20551680"/>
            <a:ext cx="12593880" cy="83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This philosophy developed young girls’ knowledge of religion, intellectual, and practical learning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The Holy Bib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Reading, Writing, and Arithmet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Domestic Scien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This kind of education would prepare young Southern black girls for the world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4"/>
          <p:cNvSpPr/>
          <p:nvPr/>
        </p:nvSpPr>
        <p:spPr>
          <a:xfrm>
            <a:off x="29945160" y="25709400"/>
            <a:ext cx="128235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Mary McLeod Bethune’s vision lives on today at the school that she founded which continues to sustain her legacy of faith, scholarship, and service”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~ The Bethune-Cookman University websi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6"/>
          <p:cNvSpPr/>
          <p:nvPr/>
        </p:nvSpPr>
        <p:spPr>
          <a:xfrm>
            <a:off x="876240" y="28663920"/>
            <a:ext cx="13190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Just like Booker T. Washington, Mary McLeod Bethune was committed to educating black people to make them employable in their society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7"/>
          <p:cNvSpPr/>
          <p:nvPr/>
        </p:nvSpPr>
        <p:spPr>
          <a:xfrm>
            <a:off x="15681240" y="20737440"/>
            <a:ext cx="13190760" cy="116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First President of Bethune-Cookma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President of the State Federation of colored Women’s Club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President of the National Association of Colored Women’s Club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Created the National Council of Negro Wom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Was an advisor on minority affair in the Roosevelt Administr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Appointed to the Hoover Administration’s National Commission on Child Welfare and the Commission on Home Building and Home Ownershi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2T16:43:43Z</dcterms:created>
  <dc:creator>Test</dc:creator>
  <dc:description/>
  <dc:language>en-US</dc:language>
  <cp:lastModifiedBy>Tionna Haynes</cp:lastModifiedBy>
  <cp:lastPrinted>2012-07-25T21:14:29Z</cp:lastPrinted>
  <dcterms:modified xsi:type="dcterms:W3CDTF">2015-04-24T18:17:35Z</dcterms:modified>
  <cp:revision>155</cp:revision>
  <dc:subject/>
  <dc:title>Slide 1</dc:title>
</cp:coreProperties>
</file>